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DA4-5806-45E9-8713-7A80ABF3A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7DE6-FBB3-42A1-B3A4-25CF2A7F6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l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ail teachers about bring an EDI lesson with clear objectives and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ime an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have a note pad for each table in addition to other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n’t have time, should we change this to pair sh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F5C7-DF44-49D5-B324-63CC56719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ne example and n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D84A-61AA-449E-9C4C-07963E21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ob alik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FF5-98FA-457B-AC92-7192E4AAC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8439-3A98-4DDB-9CAE-CFFB714F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r should not talk through the components of the model (Boring). Have the staff conduct a  table talk about the main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: “At your table, define and give examples of each of the component.” Do an informal sharing and relate to what presenter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mponents in direct instruction phase, not a checkl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U is performed throughout to verify students have learned what was taught while it was being ta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 – must be done before Jan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C6CC-8711-4CE0-8D2B-7D83CA88F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4A52-93C6-497C-8A32-38394E374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vision - What is good te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rhythm - common sets of best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ndividualism  at the same time, reduce variance to ensure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D60F-717A-428D-BE20-A3E8F63A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 them the design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 times 100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661F-9E27-420C-820C-A1245A8A9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t the target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2B97-E898-4F86-BBFC-2037E2DC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eacher will bring a lesson with EDI framework and clear learning targ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to model to make the direction very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DA84-387E-4FAD-95A3-7DAEA52A6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4AB0-7E40-4D74-B27C-FC3E547D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U - Pair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o Quadrant A, B, C and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is in Quadrant A.  Throughout the workshop, we will ask participants to connect learning to scenarios in model lessons, which is quadrant B or C.  Our goal, however, is that all teachers will be able to implement them in the authentic settings and reflect their use with mentors and administrators.  This is quadrant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nd when the iceberg model is used, we should relate to Quadrant A- D again.  Tip of iceberg is Quadrant A, but the deeper side of our learning is quadrant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share – how does this match what we have learned so far (EDI, 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077D-8E19-450D-A3BC-4670C67C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listen to the conversation, pay special attention to teacher decisions and write notes down about why they make those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note taking sheet? Note boo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7DDC-E8F5-4965-958C-A7D857C3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F81-91DF-4A3C-B8A1-00A2FF65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E41-DC5C-4CA8-8900-3691594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088-B5AF-4B6E-978F-33B2E552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C44-586F-4FA0-8B57-E066134A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6E44-F4DC-4C12-9097-8E75E327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349D-97D2-4CC9-9648-951500D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6FB7-5183-4DF3-B81F-8E67158B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CD40-E22E-4057-8470-337865A8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43B7-4E0C-4380-B8F0-EF4D0220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FB0-0BBC-46EC-9649-9B93C01C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1F55-7EFD-40DE-AFD1-3421202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C7B-6376-4090-8832-080BDF75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0788-C6BC-4530-9B9B-3FA35AE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961B-7982-4B14-9ACD-F0D6E33E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BDA3-8E51-48DE-A923-72082264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09EF-FD3D-403C-8165-AF735286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9E05-2A77-437C-8C9F-62D960DA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E27B-19E7-4BC8-8424-3C6B8B71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8A95-6D5F-405B-BAA6-890F016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06B0-EBF3-456F-AB38-0F64220F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7D7C-8C20-47FF-8FA4-F27E9B0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F35A-3B51-4871-8724-FB1FCCB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5DC-0098-4D27-9056-1C74AC37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3D6D-106E-4D09-81E6-59F59990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4E5E-AC8D-4126-8174-6CF94BF1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3237-EAF3-4CCD-9671-67F7687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E2D0-7784-406F-A44E-7C2E006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8204-8691-4A7A-AF7C-5CC3C4B8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ECDA-CC3F-49AD-8C16-29164BD5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AA51-6CC4-4D52-AA04-F2A6B785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58DE-59F7-4361-85E4-003B36F1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67DB2-5B4A-49A8-9A30-5811412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B8F4-2E5B-46EF-A7B7-CE4172FF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A1C-F760-4C1B-81CE-D28E8991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02FD-D5EA-4527-8204-0FC7AF28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A82B-6506-468A-97D6-8F5519E0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092E-CB13-4C1F-B95C-F4FEA295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A52E-FE64-486C-A6E0-D85A1252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F7D16-EC1E-48E9-9AA3-6978091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7814-89BC-40ED-B81B-9DD260C3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C521-E97F-4A3F-965C-7D50AAC4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6B5E-1D33-43DB-8D09-A66B94A5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0644-AF2B-4DC1-AE98-903AA9E4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743-0B5B-4C7D-9A1E-F81BF176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627-0007-41B2-BB5D-23E047B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B79-DC65-4A73-8F78-91D7B96D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659-2469-4B1F-BB74-DB8E5B3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97F-2256-47D2-8FB4-B65FE3F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D6D6-99EF-4BA9-89DA-372CAA7987D8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EBB4-1EC4-4713-87A9-CB6AA4A181D8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45B2-8D93-400E-BA5C-0064D8ED969D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B214-BA05-4B82-AFB3-AAD581F48E96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755640" y="1444680"/>
            <a:ext cx="8217000" cy="1841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3520" y="33526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w Teacher Learning Se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tober 30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ine of Learn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the clear learning target drive the process of unit/lesson desig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other decisions were made during the designing proces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Expand Skill Statements to Scaffold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6" descr="C:\Users\ychen\AppData\Local\Microsoft\Windows\Temporary Internet Files\Content.IE5\TGIQTVR5\MCj02958590000[1].wmf"/>
          <p:cNvPicPr/>
          <p:nvPr/>
        </p:nvPicPr>
        <p:blipFill>
          <a:blip r:embed="rId1"/>
          <a:stretch/>
        </p:blipFill>
        <p:spPr>
          <a:xfrm>
            <a:off x="2362320" y="1981080"/>
            <a:ext cx="52941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Guided Practic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should be no bigger than 4 per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a facilitator, a recorder and a reporter. (If only two, share the ro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and the skill statements to scaffol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ep the learning target in mi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nk about where your students 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ways push to the highest level of cognitive dem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ublic Shar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 both non-expanded and expan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nk alo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990720" y="380880"/>
            <a:ext cx="6933960" cy="61722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1828800" y="1143000"/>
            <a:ext cx="5334120" cy="4648320"/>
            <a:chOff x="1828800" y="1143000"/>
            <a:chExt cx="5334120" cy="4648320"/>
          </a:xfrm>
        </p:grpSpPr>
        <p:sp>
          <p:nvSpPr>
            <p:cNvPr id="246" name="Oval 4"/>
            <p:cNvSpPr/>
            <p:nvPr/>
          </p:nvSpPr>
          <p:spPr>
            <a:xfrm>
              <a:off x="1828800" y="1143000"/>
              <a:ext cx="5334120" cy="46483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4952880" y="17524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Obj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5867280" y="25146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Preview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5867280" y="3581280"/>
              <a:ext cx="12956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Explai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Model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Demonst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4952880" y="472428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Guided Pract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3733920" y="49528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3048120" y="17524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Mast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2438280" y="22860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Periodic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2209680" y="3352680"/>
              <a:ext cx="838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Daily su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2209680" y="4191120"/>
              <a:ext cx="129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Independent pract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Oval 14"/>
          <p:cNvSpPr/>
          <p:nvPr/>
        </p:nvSpPr>
        <p:spPr>
          <a:xfrm>
            <a:off x="3048120" y="2209680"/>
            <a:ext cx="2895480" cy="259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udents know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 do indepen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actice as a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instr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WordArt 15"/>
          <p:cNvSpPr txBox="1"/>
          <p:nvPr/>
        </p:nvSpPr>
        <p:spPr>
          <a:xfrm rot="4286400">
            <a:off x="2017800" y="840240"/>
            <a:ext cx="5426280" cy="5288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39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active - CFU, Effective feedback, cues and prompt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8" name="WordArt 16"/>
          <p:cNvSpPr txBox="1"/>
          <p:nvPr/>
        </p:nvSpPr>
        <p:spPr>
          <a:xfrm rot="16610400">
            <a:off x="699840" y="1966320"/>
            <a:ext cx="446724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active - Effective feed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9" name="Line 17"/>
          <p:cNvSpPr/>
          <p:nvPr/>
        </p:nvSpPr>
        <p:spPr>
          <a:xfrm flipV="1">
            <a:off x="4419720" y="380520"/>
            <a:ext cx="0" cy="1752840"/>
          </a:xfrm>
          <a:prstGeom prst="line">
            <a:avLst/>
          </a:prstGeom>
          <a:ln w="284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2743200" y="4572000"/>
            <a:ext cx="990720" cy="1523880"/>
          </a:xfrm>
          <a:prstGeom prst="line">
            <a:avLst/>
          </a:prstGeom>
          <a:ln w="284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7391520" y="5508720"/>
            <a:ext cx="1752480" cy="16311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Demo Lesson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 observation on the EDI 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y special attention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 to “UBD” and “clear learning target” resear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idence of scaffolding toward the culminating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nned CFU/assessment strategies before, during and after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C:\Users\ychen\AppData\Local\Microsoft\Windows\Temporary Internet Files\Content.IE5\692I7KWA\MPj04385850000[1].jpg"/>
          <p:cNvPicPr/>
          <p:nvPr/>
        </p:nvPicPr>
        <p:blipFill>
          <a:blip r:embed="rId1"/>
          <a:stretch/>
        </p:blipFill>
        <p:spPr>
          <a:xfrm>
            <a:off x="-6480" y="858960"/>
            <a:ext cx="9156960" cy="6005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e all the words below to formulate your line of learning: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lear target/Learning object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D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and skills/Scaff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FU/V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e of Learning – What does understand by design mean to you?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Reciprocity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0059"/>
                </a:solidFill>
                <a:latin typeface="Constantia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expanded skill statements in  unit maps and in lesson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ribute one or two skill statements to new teacher Wiki p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bed previous learning including EDI, CFU and LO with clear targets in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0059"/>
                </a:solidFill>
                <a:latin typeface="Constantia"/>
              </a:rPr>
              <a:t>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bserve from Learning Labs with purposeful refl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tor/partner and principal co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CCSD</a:t>
            </a:r>
            <a:br>
              <a:rPr sz="4500"/>
            </a:b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Mentor/Induction System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70" name="Picture 5" descr="LRO040"/>
          <p:cNvPicPr/>
          <p:nvPr/>
        </p:nvPicPr>
        <p:blipFill>
          <a:blip r:embed="rId1"/>
          <a:stretch/>
        </p:blipFill>
        <p:spPr>
          <a:xfrm>
            <a:off x="3097080" y="1828800"/>
            <a:ext cx="3264120" cy="36576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6553080" y="2362320"/>
            <a:ext cx="175284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co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85800" y="2438280"/>
            <a:ext cx="228600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809880" y="5638680"/>
            <a:ext cx="160020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762120" y="4114800"/>
            <a:ext cx="190476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acher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553080" y="4114800"/>
            <a:ext cx="190512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Work with your principal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 next workshop - Be prepared to bring a designed unit (map) and a lesson using the unit/lesson design temp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UBD/EDI concept reflected in plan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panded skill statements in map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lear learning objectives/targets in lesson pl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Planned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CFU before, during and after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Users\ychen\AppData\Local\Microsoft\Windows\Temporary Internet Files\Content.IE5\IH9HTN6R\MCj04079540000[1].wmf"/>
          <p:cNvPicPr/>
          <p:nvPr/>
        </p:nvPicPr>
        <p:blipFill>
          <a:blip r:embed="rId1"/>
          <a:stretch/>
        </p:blipFill>
        <p:spPr>
          <a:xfrm>
            <a:off x="3651120" y="2620800"/>
            <a:ext cx="1841760" cy="1616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ychen\AppData\Local\Microsoft\Windows\Temporary Internet Files\Content.IE5\IH9HTN6R\MCj04079540000[1].wmf"/>
          <p:cNvPicPr/>
          <p:nvPr/>
        </p:nvPicPr>
        <p:blipFill>
          <a:blip r:embed="rId2"/>
          <a:stretch/>
        </p:blipFill>
        <p:spPr>
          <a:xfrm>
            <a:off x="1523880" y="754200"/>
            <a:ext cx="6400800" cy="56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4"/>
          <p:cNvSpPr/>
          <p:nvPr/>
        </p:nvSpPr>
        <p:spPr>
          <a:xfrm>
            <a:off x="1752480" y="762120"/>
            <a:ext cx="5727960" cy="5244840"/>
          </a:xfrm>
          <a:custGeom>
            <a:avLst/>
            <a:gdLst>
              <a:gd name="textAreaLeft" fmla="*/ 0 w 5727960"/>
              <a:gd name="textAreaRight" fmla="*/ 5728320 w 572796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3608" h="3304">
                <a:moveTo>
                  <a:pt x="0" y="2752"/>
                </a:moveTo>
                <a:cubicBezTo>
                  <a:pt x="468" y="1376"/>
                  <a:pt x="936" y="0"/>
                  <a:pt x="1488" y="16"/>
                </a:cubicBezTo>
                <a:cubicBezTo>
                  <a:pt x="2040" y="32"/>
                  <a:pt x="3016" y="2392"/>
                  <a:pt x="3312" y="2848"/>
                </a:cubicBezTo>
                <a:cubicBezTo>
                  <a:pt x="3608" y="3304"/>
                  <a:pt x="3264" y="2752"/>
                  <a:pt x="3264" y="2752"/>
                </a:cubicBezTo>
                <a:cubicBezTo>
                  <a:pt x="3264" y="2752"/>
                  <a:pt x="3304" y="2832"/>
                  <a:pt x="3312" y="28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95288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057400" y="4343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stic, purposeful, integrated, thoughtful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Next New Teacher Learning 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ember 7 on a PL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-6: 7:30 – 10: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-12: 12:30 – 3: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ticle to deepen your understanding about “Backward Desig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ounded Rectangle 5"/>
          <p:cNvSpPr/>
          <p:nvPr/>
        </p:nvSpPr>
        <p:spPr>
          <a:xfrm>
            <a:off x="5486400" y="1371600"/>
            <a:ext cx="3048120" cy="2209680"/>
          </a:xfrm>
          <a:prstGeom prst="roundRect">
            <a:avLst>
              <a:gd name="adj" fmla="val 16667"/>
            </a:avLst>
          </a:prstGeom>
          <a:solidFill>
            <a:srgbClr val="00349e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L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0" y="4495680"/>
            <a:ext cx="3048120" cy="1981440"/>
          </a:xfrm>
          <a:prstGeom prst="ellipse">
            <a:avLst/>
          </a:prstGeom>
          <a:solidFill>
            <a:srgbClr val="4c9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048120" y="4419720"/>
            <a:ext cx="3047760" cy="1981080"/>
          </a:xfrm>
          <a:prstGeom prst="ellipse">
            <a:avLst/>
          </a:prstGeom>
          <a:solidFill>
            <a:srgbClr val="4c9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6095880" y="4419720"/>
            <a:ext cx="3048120" cy="1904760"/>
          </a:xfrm>
          <a:prstGeom prst="ellipse">
            <a:avLst/>
          </a:prstGeom>
          <a:solidFill>
            <a:srgbClr val="4c9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n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Donut 11"/>
          <p:cNvSpPr/>
          <p:nvPr/>
        </p:nvSpPr>
        <p:spPr>
          <a:xfrm>
            <a:off x="457200" y="762120"/>
            <a:ext cx="3276720" cy="3124080"/>
          </a:xfrm>
          <a:custGeom>
            <a:avLst/>
            <a:gdLst>
              <a:gd name="textAreaLeft" fmla="*/ 479880 w 3276720"/>
              <a:gd name="textAreaRight" fmla="*/ 2796840 w 3276720"/>
              <a:gd name="textAreaTop" fmla="*/ 457560 h 3124080"/>
              <a:gd name="textAreaBottom" fmla="*/ 2666520 h 3124080"/>
            </a:gdLst>
            <a:ahLst/>
            <a:rect l="textAreaLeft" t="textAreaTop" r="textAreaRight" b="textAreaBottom"/>
            <a:pathLst>
              <a:path w="3276600" h="3124200">
                <a:moveTo>
                  <a:pt x="0" y="1562100"/>
                </a:moveTo>
                <a:lnTo>
                  <a:pt x="0" y="1562100"/>
                </a:lnTo>
                <a:arcTo wR="1638300" hR="1562100" stAng="-10799996" swAng="5400002"/>
                <a:lnTo>
                  <a:pt x="1638303" y="2"/>
                </a:lnTo>
                <a:arcTo wR="1638300" hR="1562100" stAng="-5399996" swAng="5400002"/>
                <a:lnTo>
                  <a:pt x="3276601" y="1562105"/>
                </a:lnTo>
                <a:arcTo wR="1638300" hR="1562100" stAng="0" swAng="5400002"/>
                <a:lnTo>
                  <a:pt x="1638300" y="3124205"/>
                </a:lnTo>
                <a:arcTo wR="1638300" hR="1562100" stAng="5400002" swAng="5400002"/>
                <a:close/>
                <a:moveTo>
                  <a:pt x="781050" y="1562100"/>
                </a:moveTo>
                <a:lnTo>
                  <a:pt x="781050" y="1562100"/>
                </a:lnTo>
                <a:arcTo wR="857250" hR="781050" stAng="-10799996" swAng="-5400000"/>
                <a:lnTo>
                  <a:pt x="1638299" y="2343151"/>
                </a:lnTo>
                <a:arcTo wR="857250" hR="781050" stAng="5400000" swAng="-5400000"/>
                <a:lnTo>
                  <a:pt x="2495549" y="1562101"/>
                </a:lnTo>
                <a:arcTo wR="857250" hR="781050" stAng="0" swAng="-5400000"/>
                <a:lnTo>
                  <a:pt x="1638299" y="781051"/>
                </a:lnTo>
                <a:arcTo wR="857250" hR="781050" stAng="-5399996" swAng="-5400000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1523880" y="1905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ounded Rectangle 14"/>
          <p:cNvSpPr/>
          <p:nvPr/>
        </p:nvSpPr>
        <p:spPr>
          <a:xfrm>
            <a:off x="2819520" y="13716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00349e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ight Arrow 15"/>
          <p:cNvSpPr/>
          <p:nvPr/>
        </p:nvSpPr>
        <p:spPr>
          <a:xfrm>
            <a:off x="3886200" y="1523880"/>
            <a:ext cx="1295280" cy="60984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17"/>
          <p:cNvCxnSpPr/>
          <p:nvPr/>
        </p:nvCxnSpPr>
        <p:spPr>
          <a:xfrm flipH="1">
            <a:off x="2437920" y="3351600"/>
            <a:ext cx="3201120" cy="1296360"/>
          </a:xfrm>
          <a:prstGeom prst="straightConnector1">
            <a:avLst/>
          </a:prstGeom>
          <a:ln w="76320">
            <a:solidFill>
              <a:srgbClr val="be2465"/>
            </a:solidFill>
            <a:miter/>
            <a:tailEnd len="med" type="arrow" w="med"/>
          </a:ln>
        </p:spPr>
      </p:cxnSp>
      <p:cxnSp>
        <p:nvCxnSpPr>
          <p:cNvPr id="215" name="Straight Arrow Connector 18"/>
          <p:cNvCxnSpPr>
            <a:endCxn id="208" idx="7"/>
          </p:cNvCxnSpPr>
          <p:nvPr/>
        </p:nvCxnSpPr>
        <p:spPr>
          <a:xfrm flipH="1">
            <a:off x="5649480" y="3504240"/>
            <a:ext cx="1285200" cy="1205640"/>
          </a:xfrm>
          <a:prstGeom prst="straightConnector1">
            <a:avLst/>
          </a:prstGeom>
          <a:ln w="76320">
            <a:solidFill>
              <a:srgbClr val="be2465"/>
            </a:solidFill>
            <a:miter/>
            <a:tailEnd len="med" type="arrow" w="med"/>
          </a:ln>
        </p:spPr>
      </p:cxnSp>
      <p:cxnSp>
        <p:nvCxnSpPr>
          <p:cNvPr id="216" name="Straight Arrow Connector 19"/>
          <p:cNvCxnSpPr/>
          <p:nvPr/>
        </p:nvCxnSpPr>
        <p:spPr>
          <a:xfrm>
            <a:off x="7772400" y="3657600"/>
            <a:ext cx="76680" cy="838800"/>
          </a:xfrm>
          <a:prstGeom prst="straightConnector1">
            <a:avLst/>
          </a:prstGeom>
          <a:ln w="76320">
            <a:solidFill>
              <a:srgbClr val="be2465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review and Review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light the learning targets in your less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 the three components in a learning objecti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id your students do with this lesson? How do you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er coach (Choose to do either or both)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lain why the learning objective was clear to your students and how it helped them lear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e to make it even more clear to enhance learn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Objectives of Today</a:t>
            </a: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s PL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167616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onnect </a:t>
            </a: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research to curriculum desig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Recognize</a:t>
            </a: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 how the curriculum tool enhances lesson plann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Identify </a:t>
            </a:r>
            <a:r>
              <a:rPr b="0" lang="en-US" sz="3600" spc="-1" strike="noStrike">
                <a:solidFill>
                  <a:srgbClr val="008040"/>
                </a:solidFill>
                <a:latin typeface="Constantia"/>
              </a:rPr>
              <a:t>EDI components and learning targets from a model less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rite </a:t>
            </a:r>
            <a:r>
              <a:rPr b="0" lang="en-US" sz="3600" spc="-1" strike="noStrike">
                <a:solidFill>
                  <a:srgbClr val="008040"/>
                </a:solidFill>
                <a:latin typeface="Constantia"/>
              </a:rPr>
              <a:t>clear learning targets and expanded  skill statements </a:t>
            </a:r>
            <a:r>
              <a:rPr b="0" lang="en-US" sz="3600" spc="-1" strike="noStrike">
                <a:solidFill>
                  <a:srgbClr val="00349e"/>
                </a:solidFill>
                <a:latin typeface="Constantia"/>
              </a:rPr>
              <a:t>in lesson units and plan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2"/>
          <p:cNvSpPr/>
          <p:nvPr/>
        </p:nvSpPr>
        <p:spPr>
          <a:xfrm>
            <a:off x="380880" y="304920"/>
            <a:ext cx="2971800" cy="2590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dentify Desir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5638680" y="2819520"/>
            <a:ext cx="3124440" cy="2590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lan Learning Experiences &amp;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2971800" y="1676520"/>
            <a:ext cx="2971800" cy="25146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cceptable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Rectangle 8" descr=""/>
          <p:cNvPicPr/>
          <p:nvPr/>
        </p:nvPicPr>
        <p:blipFill>
          <a:blip r:embed="rId1"/>
          <a:stretch/>
        </p:blipFill>
        <p:spPr>
          <a:xfrm>
            <a:off x="219240" y="5181480"/>
            <a:ext cx="8791560" cy="1468440"/>
          </a:xfrm>
          <a:prstGeom prst="rect">
            <a:avLst/>
          </a:prstGeom>
          <a:ln w="0">
            <a:noFill/>
          </a:ln>
        </p:spPr>
      </p:pic>
      <p:sp>
        <p:nvSpPr>
          <p:cNvPr id="225" name="Curved Down Arrow 12"/>
          <p:cNvSpPr/>
          <p:nvPr/>
        </p:nvSpPr>
        <p:spPr>
          <a:xfrm>
            <a:off x="3505320" y="914400"/>
            <a:ext cx="1066680" cy="533520"/>
          </a:xfrm>
          <a:custGeom>
            <a:avLst/>
            <a:gdLst>
              <a:gd name="textAreaLeft" fmla="*/ 216720 w 1066680"/>
              <a:gd name="textAreaRight" fmla="*/ 78336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urved Down Arrow 13"/>
          <p:cNvSpPr/>
          <p:nvPr/>
        </p:nvSpPr>
        <p:spPr>
          <a:xfrm>
            <a:off x="5943600" y="1981080"/>
            <a:ext cx="1066680" cy="533520"/>
          </a:xfrm>
          <a:custGeom>
            <a:avLst/>
            <a:gdLst>
              <a:gd name="textAreaLeft" fmla="*/ 216720 w 1066680"/>
              <a:gd name="textAreaRight" fmla="*/ 78336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Begin With the End in Mind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reating Clear Learning Targe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highlight key po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/B Partners - Partner A summarizes and B adds; reverse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 to Line of Learning - How do clear learning targets relate to the concept of Backward Desig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Not by default, but by design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824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C:\Users\ychen\AppData\Local\Microsoft\Windows\Temporary Internet Files\Content.IE5\8DYO9J6P\MPj04393320000[1]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752480" y="259092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Double entry journal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What did she decide to d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What was she thin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aptured in the map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 to teachers’ curriculum ma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ing Ying Chen</dc:creator>
  <dc:description/>
  <dc:language>en-US</dc:language>
  <cp:lastModifiedBy>ychen</cp:lastModifiedBy>
  <dcterms:modified xsi:type="dcterms:W3CDTF">2009-10-23T03:20:24Z</dcterms:modified>
  <cp:revision>109</cp:revision>
  <dc:subject/>
  <dc:title>An Overview/Review of the Explicit Direct Instruction Model</dc:title>
</cp:coreProperties>
</file>